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137-9E25-4E79-9195-B17875BF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3D4-10C5-4FAD-8590-92DDD044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603-C8C9-4C6C-9BD0-479B1F4A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9F4-6806-4F8D-8C85-EE69604A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895-B58C-4147-9A60-14C32D17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816-A60E-45C5-A907-5145034F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9F0-CB2E-4532-91D4-CCD0BDAA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298-39A5-4A1A-AD7F-76508AAE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BDA-77EA-4B42-88E5-1AF7E3D5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D11-F141-43F9-8052-05DA8F1A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413-B6BB-4A34-8BC5-7DFABA30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195-004A-4BEA-AA64-41C54D54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F008-5364-4AD3-AD32-E591469C0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280" y="291960"/>
            <a:ext cx="868680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entury Gothic"/>
              </a:rPr>
              <a:t>COLD MOUNTAIN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3048120"/>
            <a:ext cx="71629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Author: Charles Frazi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6019920"/>
            <a:ext cx="839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Meghan, Marie, Will, and Ev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1:05:39Z</dcterms:created>
  <dc:creator>User</dc:creator>
  <dc:description/>
  <dc:language>en-US</dc:language>
  <cp:lastModifiedBy>User</cp:lastModifiedBy>
  <dcterms:modified xsi:type="dcterms:W3CDTF">2009-06-01T21:10:21Z</dcterms:modified>
  <cp:revision>2</cp:revision>
  <dc:subject/>
  <dc:title>Slide 1</dc:title>
</cp:coreProperties>
</file>